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14CF-D6D2-4D1C-8172-5D3C295D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6D22-E497-4C77-B43E-7EB7D2F1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0434-A4C9-4839-8EE4-7DB2AFC1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F753-02D0-4E94-90C9-E371E05B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E015-C0E1-46E7-AEF4-59B1526B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79DA-9015-472E-9DD6-AB755390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EB1-575E-4B05-8723-E72BADDF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5295-4ECB-4377-BDB7-3AD7D6B1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BDC5-86EF-4874-B13A-12891415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B393-43D7-48C8-B9A0-D6231945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92B1-D232-480A-A3ED-1384EE25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78FF-56C9-43F0-BB85-5D6FD20A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CDA6-975B-4017-A4A8-2DD90F8CF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280" y="476280"/>
            <a:ext cx="514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How many of you am I expected to see in Year 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35280" y="399960"/>
            <a:ext cx="597852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3280" y="476280"/>
            <a:ext cx="8029440" cy="37465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he current Year 12 has 50 pupils studying maths in thre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20% come from other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he rest came from the 2 top sets of GSCE maths in this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 typical size for a top set GCSE maths class is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2920" y="4473720"/>
            <a:ext cx="8316720" cy="15562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many of you will I be teaching in Year 12 assuming all trends, class sizes and number of sets remain the sa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22:03:32Z</dcterms:created>
  <dc:creator>Trifon</dc:creator>
  <dc:description/>
  <dc:language>en-US</dc:language>
  <cp:lastModifiedBy>Trifon</cp:lastModifiedBy>
  <dcterms:modified xsi:type="dcterms:W3CDTF">2003-11-15T09:24:17Z</dcterms:modified>
  <cp:revision>4</cp:revision>
  <dc:subject/>
  <dc:title>Slide 1</dc:title>
</cp:coreProperties>
</file>